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72893"/>
        <c:axId val="49958339"/>
      </c:barChart>
      <c:catAx>
        <c:axId val="62472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58339"/>
        <c:crosses val="autoZero"/>
        <c:auto val="1"/>
        <c:lblAlgn val="ctr"/>
        <c:lblOffset val="100"/>
        <c:noMultiLvlLbl val="0"/>
      </c:catAx>
      <c:valAx>
        <c:axId val="49958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72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AFC-7F41-4F0E-855E-C24B7823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61A-8F89-45D7-B7EF-ED460AB9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51E-C11F-4B25-9644-AF12AAED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E2B-34F4-43D8-A0FB-2227ED00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0D3-BB73-4E9F-AB00-8AC6CA44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6C3-9B17-4FE2-AE29-B3593A51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B70-4E10-416F-A847-1CCDA984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7B4-F75D-406B-8169-BC0F17A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7DF-4D53-4F27-B8B1-79DBADAB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25E-4572-448B-8459-6A6D98CE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C82-AA31-4747-AD1C-48B572C5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663-6627-42EE-A74E-A03516B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DF041-A7EA-4F98-9DC9-F1C4544FB4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