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1542"/>
        <c:axId val="27382653"/>
      </c:barChart>
      <c:catAx>
        <c:axId val="91915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82653"/>
        <c:crosses val="autoZero"/>
        <c:auto val="1"/>
        <c:lblAlgn val="ctr"/>
        <c:lblOffset val="100"/>
        <c:noMultiLvlLbl val="0"/>
      </c:catAx>
      <c:valAx>
        <c:axId val="27382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15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68E-31F4-4CF0-B290-0DC66858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FF5-A9A4-480F-9960-9F07AED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477-1803-4CF4-B002-FB33B0DB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D36-F472-4AB2-84CC-AE0802E9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72E-9285-4F37-B789-E936B712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6BB-9611-4CC3-80B8-A2D92100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420-EB2C-4E18-AA34-9C5A29C2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DD04-7270-40D6-814C-F48F3568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23B-F3CD-4D17-8F39-0BDDB0E7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5EE-8693-45F0-999A-DD5199DB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30E-B778-4B18-B8B7-2904EA40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830-4C39-4128-AC14-0814B08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A9FE2-60B5-4293-89AF-428780E772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