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64107"/>
        <c:axId val="34971034"/>
      </c:barChart>
      <c:catAx>
        <c:axId val="52564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71034"/>
        <c:crosses val="autoZero"/>
        <c:auto val="1"/>
        <c:lblAlgn val="ctr"/>
        <c:lblOffset val="100"/>
        <c:noMultiLvlLbl val="0"/>
      </c:catAx>
      <c:valAx>
        <c:axId val="34971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64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37A-C00D-4147-A593-EF580A4A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F51-0E30-49CA-BCDD-BBFE2B92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1DC-1860-4754-BB05-909BCF96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F56-4851-4240-B077-1903FB8C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6CA-2BCC-46D9-A78A-975C166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50C-63F9-449D-9CD4-30A3838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CD1-9536-421C-9E33-0632ED6D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732-12A6-4D31-981A-C4801433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5E-4B34-4743-B041-A5BD74B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374-3B76-4C90-A413-315BF92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D03-DFF6-49A3-8244-4FE75F8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D81-AB1A-4A2B-A947-608CF92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B1BFA-357F-4DD9-9758-CE7A355F2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