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64623"/>
        <c:axId val="9124834"/>
      </c:barChart>
      <c:catAx>
        <c:axId val="91264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834"/>
        <c:crosses val="autoZero"/>
        <c:auto val="1"/>
        <c:lblAlgn val="ctr"/>
        <c:lblOffset val="100"/>
        <c:noMultiLvlLbl val="0"/>
      </c:catAx>
      <c:valAx>
        <c:axId val="9124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4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9ED-8632-4294-BE82-AC3F9E5D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B6A-85F8-4842-8889-18F11EE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C97-3798-4549-8EF0-3FEF7D29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CD7-A7B1-4B94-A65C-3759F76B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925-304C-457F-BF04-AAFE4D6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3D2-2720-4A5F-B8DF-62FBD551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A77-7DF9-4F6F-9065-C90DC7B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CA2-FC1B-4C90-8D21-C395F106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754-A7D4-4330-9C85-36F45C1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444-DFE1-4195-AAC5-5063E86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C4D-BB2A-4DCB-A11A-EED5062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1B2-7D1C-4BAC-A4F6-03ED1EE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8DF3F-7ED2-4257-BCCA-08B5B7C23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