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2247"/>
        <c:axId val="15147548"/>
      </c:barChart>
      <c:catAx>
        <c:axId val="9452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47548"/>
        <c:crosses val="autoZero"/>
        <c:auto val="1"/>
        <c:lblAlgn val="ctr"/>
        <c:lblOffset val="100"/>
        <c:noMultiLvlLbl val="0"/>
      </c:catAx>
      <c:valAx>
        <c:axId val="15147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2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C8E-AFAC-4B0F-8019-8C95C3DF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AB9-914D-4E64-B0E2-9A825098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C40-50B3-4C7E-91BF-6FE138CF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190-8BFD-4C72-9A60-BBBB9EB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D76-2F33-4B7F-B690-27DC7126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D7D-8BC3-4DC0-8886-750047CB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459-A6F4-4BB6-80EB-4989DDAC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204-EB9A-4703-A891-892A2ED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8F5-8176-4D5A-A2A4-FD85307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D8B-5638-4F0B-96B0-4440F0E8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69D-6ED6-45E6-AA6F-F763E5B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401-0D2F-467B-A3AB-EACA6AE2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1125B-5DF4-4858-B31E-268D55F85C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